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04DC8B-3633-4A42-BD31-92994CBFCDBC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F297CD-E651-41E9-8375-75AB048CF084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922-15DB-459E-8A11-E4C99C8B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7CC-C463-4E6A-A067-8AEE5700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0F3-5164-4DF4-AAC6-14C2CE39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CA0-7E97-4B1B-AF58-2967146A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9A99-347C-4227-B57E-D25F450B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08D3-0C83-4545-A353-FEF120EB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9C93-EDA4-4E99-8253-EFF793D6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D241-3CC8-4C5C-A02C-98846693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1D35-6989-495D-8592-CB1677B0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81FA-DB75-42D4-9A46-FA2FDB40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589-8D22-49EE-BDF1-C297C20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87B-7380-4553-BE73-DA47B8D2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B7E4-3754-4BC7-999F-BF66B07F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8E07-3C57-49EA-BFEB-9C7DDE02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F3C1-5C9B-4972-9D24-A3F04A35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A792-C995-4C89-928B-56E14EE2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9D1D-E598-40C5-BAB8-193678F6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4B35-3D4B-4205-898F-546838E0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3656-E0A9-45BF-811A-D200E734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82FC-B51E-48DE-A3E4-518E0BEA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C9D1-58E3-4837-9FC9-08D87219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406C-5A01-4BB8-B9F2-DE4A2938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E1D-779E-47D0-977D-B92020E1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8CAF-E5D0-49BF-8C38-D37EDA32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2AE5-A83D-4827-A98A-E9A41E2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E21C-527A-49D8-A10D-45EA2DB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AEA6-A7CB-43CA-AF13-1202EFBA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2F05-CDED-4970-90AE-8C02A8C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CF08-A347-44AF-A76B-F428FBA0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B2C1-7250-4A16-855E-3867999A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03C-3CC7-4674-96E2-35BA2C97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C7F-F326-4D4B-BCE5-F239B1BE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418-810D-4823-8D93-06391C0E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062-7CE8-461A-A4BC-DDEF330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C18-439F-4185-8C13-551C66F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325-73E7-4C23-8B15-80E9F0FF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BABE-DBE9-4583-977F-CF4D52928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72C3-25FB-4238-A943-FDAFB6AFCF61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AB29-5D59-4E32-BF71-3CF6227FE108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1994040" y="1041480"/>
            <a:ext cx="5086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12640" y="372960"/>
          <a:ext cx="86040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372960"/>
                    <a:ext cx="8604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31680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CAL UNIVERSITY – PLEV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ACULTY OF MEDIC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VISION OF PHYSICS AND BIOPHYSIC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Lecture</a:t>
            </a:r>
            <a:r>
              <a:rPr b="0" lang="bg-BG" sz="1800" spc="-1" strike="noStrike">
                <a:solidFill>
                  <a:srgbClr val="000099"/>
                </a:solidFill>
                <a:latin typeface="Arial Black"/>
              </a:rPr>
              <a:t> №10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650880" y="2608200"/>
            <a:ext cx="83948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NSPORT OF MATTER ACROSS CEL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942840" y="4111560"/>
            <a:ext cx="73630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EMBRANES - CLASSIFIC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16480" y="61358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rof. M. Alexandrova, DSc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Tzanev-MU</cp:lastModifiedBy>
  <dcterms:modified xsi:type="dcterms:W3CDTF">2015-11-16T07:54:50Z</dcterms:modified>
  <cp:revision>464</cp:revision>
  <dc:subject/>
  <dc:title>Slide 1</dc:title>
</cp:coreProperties>
</file>